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07D-587E-4839-A0BF-13451E08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0D8-93BB-4008-BEAD-906116C0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B9B-02FC-493D-ACBD-63C74C05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16C-4E1D-4A6B-851A-823E2691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056C-5F8F-4683-9C28-D840D6E6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EB6-8A49-4518-8BA5-FE649A95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78AD-19A3-48F9-B1A7-22EB5A6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D37-9E70-4C3C-A7DE-BB9AAEE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1D4-A9F0-4D87-8D20-35D8F15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C948-DACE-4F73-9C86-23D84CA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479-7D18-47EF-95B9-EB24DD9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0F6-9AD7-4417-886F-13141DD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FC4-E5C2-4BE4-BC57-93E1D0F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D2D-4EA3-4FA3-9DB4-FA6F07AC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FEA3-E064-4F6C-A58F-58D1A4CD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660-1022-457E-B3BC-AF02AC2A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48CC-973C-4D25-B171-2B7C92B1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461-672B-4467-9695-3E0BC6C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388-9A0C-41E8-B500-AC4F597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410-24CF-4470-922B-B69DB14C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A8A-8DF8-4326-A0AF-054DCCC5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1B6-6501-4B6A-B5EF-424EBDD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146-1F96-458D-8796-E40E291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435-591E-469D-A540-C3D8229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5F3-BC72-4D17-97CE-2510504959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23C6-D978-435D-A7BD-EDA8A32AF701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Мы - пассажиры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Documents and Settings\Admin\Рабочий стол\img15.jpg"/>
          <p:cNvPicPr/>
          <p:nvPr/>
        </p:nvPicPr>
        <p:blipFill>
          <a:blip r:embed="rId1"/>
          <a:stretch/>
        </p:blipFill>
        <p:spPr>
          <a:xfrm>
            <a:off x="1214280" y="1539720"/>
            <a:ext cx="6786720" cy="487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071720" y="402840"/>
            <a:ext cx="7000560" cy="57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то из пассажиров нарушает ПДД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учебный модуль\0028-028-Dvizhenie-avtomobilja.jpg"/>
          <p:cNvPicPr/>
          <p:nvPr/>
        </p:nvPicPr>
        <p:blipFill>
          <a:blip r:embed="rId1"/>
          <a:stretch/>
        </p:blipFill>
        <p:spPr>
          <a:xfrm>
            <a:off x="500040" y="2214720"/>
            <a:ext cx="3898800" cy="31748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928800" y="38880"/>
            <a:ext cx="7286400" cy="152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акие действия персонажей говорят о нарушении правил поведения пассажиров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Picture 3" descr="C:\Documents and Settings\Admin\Рабочий стол\0028-028-Dvizhenie-avtomobilja.jpg"/>
          <p:cNvPicPr/>
          <p:nvPr/>
        </p:nvPicPr>
        <p:blipFill>
          <a:blip r:embed="rId2"/>
          <a:stretch/>
        </p:blipFill>
        <p:spPr>
          <a:xfrm>
            <a:off x="4714920" y="2214720"/>
            <a:ext cx="3746520" cy="341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Автобус"/>
          <p:cNvPicPr/>
          <p:nvPr/>
        </p:nvPicPr>
        <p:blipFill>
          <a:blip r:embed="rId1"/>
          <a:stretch/>
        </p:blipFill>
        <p:spPr>
          <a:xfrm>
            <a:off x="0" y="1773360"/>
            <a:ext cx="324000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Метро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Трамвай"/>
          <p:cNvPicPr/>
          <p:nvPr/>
        </p:nvPicPr>
        <p:blipFill>
          <a:blip r:embed="rId3"/>
          <a:stretch/>
        </p:blipFill>
        <p:spPr>
          <a:xfrm>
            <a:off x="5580000" y="4508640"/>
            <a:ext cx="3564000" cy="206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Троллейбус"/>
          <p:cNvPicPr/>
          <p:nvPr/>
        </p:nvPicPr>
        <p:blipFill>
          <a:blip r:embed="rId4"/>
          <a:stretch/>
        </p:blipFill>
        <p:spPr>
          <a:xfrm>
            <a:off x="179280" y="4365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МаршрутноеТакси"/>
          <p:cNvPicPr/>
          <p:nvPr/>
        </p:nvPicPr>
        <p:blipFill>
          <a:blip r:embed="rId5"/>
          <a:stretch/>
        </p:blipFill>
        <p:spPr>
          <a:xfrm>
            <a:off x="2987640" y="3500280"/>
            <a:ext cx="2657520" cy="173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25092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оллейбус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956720" y="3500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етр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74072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5092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втобус рейсов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132000" y="530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ршрутное так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1071720" y="125640"/>
            <a:ext cx="714348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бщественный транспорт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- транспортное средство общего пользования, предназначенное для перевозки по дорогам людей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ОстановкаАвтобуса"/>
          <p:cNvPicPr/>
          <p:nvPr/>
        </p:nvPicPr>
        <p:blipFill>
          <a:blip r:embed="rId1"/>
          <a:stretch/>
        </p:blipFill>
        <p:spPr>
          <a:xfrm>
            <a:off x="74520" y="20001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ОстановкаТрамвая"/>
          <p:cNvPicPr/>
          <p:nvPr/>
        </p:nvPicPr>
        <p:blipFill>
          <a:blip r:embed="rId2"/>
          <a:stretch/>
        </p:blipFill>
        <p:spPr>
          <a:xfrm>
            <a:off x="4643280" y="197640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1143000" y="147240"/>
            <a:ext cx="714060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Ждать автобус, троллейбус или трамвай нужно только на остановках – местах, обозначенных специальными знака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403280" y="537156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86080" y="3500280"/>
            <a:ext cx="1297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7846920" y="314316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12" descr="Постовой_Маленький"/>
          <p:cNvPicPr/>
          <p:nvPr/>
        </p:nvPicPr>
        <p:blipFill>
          <a:blip r:embed="rId3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ПосадкаВАвтобус"/>
          <p:cNvPicPr/>
          <p:nvPr/>
        </p:nvPicPr>
        <p:blipFill>
          <a:blip r:embed="rId1"/>
          <a:stretch/>
        </p:blipFill>
        <p:spPr>
          <a:xfrm>
            <a:off x="1835280" y="1763640"/>
            <a:ext cx="5113080" cy="39513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000080" y="219960"/>
            <a:ext cx="7215120" cy="172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ходить для посадки к двери можно только после полной остановки транспорта. Не садись в транспорт в последний момент, тебя может прищемить дверя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332000" y="588996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осадка в транспорт требует внимания и осторож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Постовой_Маленький"/>
          <p:cNvPicPr/>
          <p:nvPr/>
        </p:nvPicPr>
        <p:blipFill>
          <a:blip r:embed="rId3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Постовой_Маленький"/>
          <p:cNvPicPr/>
          <p:nvPr/>
        </p:nvPicPr>
        <p:blipFill>
          <a:blip r:embed="rId4"/>
          <a:stretch/>
        </p:blipFill>
        <p:spPr>
          <a:xfrm>
            <a:off x="17640" y="4724280"/>
            <a:ext cx="11509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ДержисьЗаПоручни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3224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928800" y="75600"/>
            <a:ext cx="735804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 салон следует заходить спокойно, никого не расталкивая. Возле дверей лучше не стоять. Там тебя будут постоянно задевать те, кто выходит, а открывающаяся дверь может и прищеми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258920" y="5027040"/>
            <a:ext cx="7593120" cy="1623240"/>
          </a:xfrm>
          <a:prstGeom prst="roundRect">
            <a:avLst>
              <a:gd name="adj" fmla="val 1663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Во время движения нужно сидеть, а если нет мест, то необходимо обязательно держаться за поручни. Иначе можно упасть и сильно удариться! При поездке в маршрутном такси вообще стоять ЗАПРЕЩЕНО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2" descr="Постовой_Маленький"/>
          <p:cNvPicPr/>
          <p:nvPr/>
        </p:nvPicPr>
        <p:blipFill>
          <a:blip r:embed="rId2"/>
          <a:stretch/>
        </p:blipFill>
        <p:spPr>
          <a:xfrm>
            <a:off x="0" y="4724280"/>
            <a:ext cx="115092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3"/>
          <p:cNvSpPr/>
          <p:nvPr/>
        </p:nvSpPr>
        <p:spPr>
          <a:xfrm>
            <a:off x="3708360" y="1628640"/>
            <a:ext cx="1441440" cy="1008360"/>
          </a:xfrm>
          <a:prstGeom prst="wedgeEllipseCallout">
            <a:avLst>
              <a:gd name="adj1" fmla="val -43722"/>
              <a:gd name="adj2" fmla="val 105592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Ой! Ой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могите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928800" y="32400"/>
            <a:ext cx="7500960" cy="158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льзя отвлекать водителя во время движения, мешать другим пассажирам. Ни в коем случае нельзя: покидать автобус, выпрыгивая на ходу, стоять на ступеньках, мешая закрытию дверей,  высовываться в окно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5" descr="ПассажирыАвтобуса"/>
          <p:cNvPicPr/>
          <p:nvPr/>
        </p:nvPicPr>
        <p:blipFill>
          <a:blip r:embed="rId1"/>
          <a:stretch/>
        </p:blipFill>
        <p:spPr>
          <a:xfrm>
            <a:off x="1908000" y="1928880"/>
            <a:ext cx="5040360" cy="34002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Когда пассажир соблюдает правила – он в безопасност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Admin\Рабочий стол\учебный модуль\img5.jpg"/>
          <p:cNvPicPr/>
          <p:nvPr/>
        </p:nvPicPr>
        <p:blipFill>
          <a:blip r:embed="rId2"/>
          <a:stretch/>
        </p:blipFill>
        <p:spPr>
          <a:xfrm>
            <a:off x="64296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sp>
        <p:nvSpPr>
          <p:cNvPr id="129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еревозка детей до 12-летнего возраста в транспортных средствах должна осуществляться с  использованием специальных детских удерживающих устрой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До 12-летнего возраста в легковом автомобиле ваше место на заднем сидени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Picture 3" descr="C:\Documents and Settings\Admin\Рабочий стол\img5.jpg"/>
          <p:cNvPicPr/>
          <p:nvPr/>
        </p:nvPicPr>
        <p:blipFill>
          <a:blip r:embed="rId3"/>
          <a:stretch/>
        </p:blipFill>
        <p:spPr>
          <a:xfrm>
            <a:off x="485784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рещается перевозить детей до 12-летнего возраста на заднем сиденье мотоцик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C:\Documents and Settings\Admin\Рабочий стол\img4.jpg"/>
          <p:cNvPicPr/>
          <p:nvPr/>
        </p:nvPicPr>
        <p:blipFill>
          <a:blip r:embed="rId1"/>
          <a:stretch/>
        </p:blipFill>
        <p:spPr>
          <a:xfrm>
            <a:off x="714240" y="214200"/>
            <a:ext cx="7786800" cy="478656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pic>
        <p:nvPicPr>
          <p:cNvPr id="134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е обходите стоящий автобус ни спереди, ни с сзад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тоящий автобус закрывает собою участок дороги, по которому в тот момент, когда вы решили ее перейти, может проезжать автомобиль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Picture 2" descr="C:\Documents and Settings\Admin\Рабочий стол\учебный модуль\img27.jpg"/>
          <p:cNvPicPr/>
          <p:nvPr/>
        </p:nvPicPr>
        <p:blipFill>
          <a:blip r:embed="rId2"/>
          <a:stretch/>
        </p:blipFill>
        <p:spPr>
          <a:xfrm>
            <a:off x="571680" y="192888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img27.jpg"/>
          <p:cNvPicPr/>
          <p:nvPr/>
        </p:nvPicPr>
        <p:blipFill>
          <a:blip r:embed="rId3"/>
          <a:stretch/>
        </p:blipFill>
        <p:spPr>
          <a:xfrm>
            <a:off x="4857840" y="1928880"/>
            <a:ext cx="39830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Admin</cp:lastModifiedBy>
  <dcterms:modified xsi:type="dcterms:W3CDTF">2015-03-29T14:57:24Z</dcterms:modified>
  <cp:revision>41</cp:revision>
  <dc:subject/>
  <dc:title>ОСНОВНЫЕ ПОНЯТИЯ И ТЕРМИНЫ, используемые в правилах дорожного движения</dc:title>
</cp:coreProperties>
</file>